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899-9771-4489-BC01-27D5B1D6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7BE-37D7-4D44-83C3-517204D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4F7-A5F0-4884-83BC-8759DB41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C0E-C973-4213-B7C1-8935E512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B45A2-B6BC-458F-A047-277704FD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D3F0D-AF0C-4623-BB93-22CCA98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6026-0491-4D80-AA32-45FAB6E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30DA4-7B14-4CED-B70B-59A07033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8AF41-EC60-46DF-94CB-076EBCED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B0B3A-3EE1-4D0E-98B0-6F87D05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132F-1B5F-4C4C-9E02-B98FFE2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B90-6936-4DB8-ADCC-6B4C3D8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1A74-5D0A-456C-85CF-609CB80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8118D-D991-4B9F-B33D-0263A65C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6ACB4-296E-4E23-BB75-C721205E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05B1-1844-4B91-97F7-F4DDE0CD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D4720-9264-46F8-BE60-35DC297F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41A-0EE1-4451-8ECD-938CCE2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6B1-BCEA-4312-B12B-8EA1A3C4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12E-5DED-4D49-9830-A9FBC981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BCE-2ECF-45E7-B4F0-162A247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1E3-DA8A-4B6B-BD71-6493ECC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AAA-DD33-4D8C-A431-864A0B05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9FC-31E1-4E0C-9975-6CD0CF2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FC8-17CF-45B2-B425-3E81BECA6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ECA1-32B2-4944-819A-133F3188CF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Green Lynx Spid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 Henry Wenz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2971800" cy="2440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81680" y="4067280"/>
            <a:ext cx="21337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een Lynx Spider Habit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Lynx Spiders live in the southern United States. They also live in Mexico and Central America, and often have their homes in clumps of prickly pear cact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um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Lynx Spiders usually eat other insects such as bees and wasps. It is a helpful insect because it eats a lot of bugs that damage crop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Lynx spiders usually live in warm climates.  The climate they live in is usually dry as well.  Green Lynx spiders are very rarely found in a cold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efinition of Symbiotic Relationship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salism is a class of relationships between two organisms where one benefits the other and the other is not significantly harmed or gains benef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biotic and Biotic Features of the Habit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its biotic features are other insects and, if they are living near a city, hum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its abiotic features are things like water and the sun.  Bugs like come out when it’s warm and sun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45:51Z</dcterms:created>
  <dc:creator> </dc:creator>
  <dc:description/>
  <dc:language>en-US</dc:language>
  <cp:lastModifiedBy> </cp:lastModifiedBy>
  <dcterms:modified xsi:type="dcterms:W3CDTF">2009-01-15T15:41:48Z</dcterms:modified>
  <cp:revision>21</cp:revision>
  <dc:subject/>
  <dc:title>Green Lynx Spider</dc:title>
</cp:coreProperties>
</file>